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3B9-8552-4B6C-A737-79CA2C6D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A74-D957-4F15-A85A-85A33BEF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67B-15F6-4C08-9101-62E10BE8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307-B570-446E-A7AD-D1255D48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C3D-6471-45FB-9430-6DD4F34C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62E-575F-4A56-A6D0-37BD8D4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4EB-CC0F-428A-9DC6-E14C884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ACE-23F4-437F-B2CE-88095088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558-E6B4-4430-81FF-5D1A401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59C-AD2C-4C52-8967-3579FF3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F78-4997-4645-884F-7ED1BAE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C7B-B652-4DA3-8D64-3B267F6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2EC-F552-4DA2-87D2-3DB67B62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rington"/>
              </a:rPr>
              <a:t>By: Katia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rington"/>
              </a:rPr>
              <a:t>3/31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1066680"/>
            <a:ext cx="5715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Astronomy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00600" y="762120"/>
            <a:ext cx="2819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386240" y="3152880"/>
            <a:ext cx="371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gency FB"/>
              </a:rPr>
              <a:t>Da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91320" y="609480"/>
            <a:ext cx="2361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60948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Ni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90920" y="14479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Seas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11430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tencil"/>
              </a:rPr>
              <a:t>solar Eclip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tencil"/>
              <a:ea typeface="Stenci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410080" y="60948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unar Eclip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3095640"/>
            <a:ext cx="464832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1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12408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7:47:58Z</dcterms:created>
  <dc:creator>kwagner</dc:creator>
  <dc:description/>
  <dc:language>en-US</dc:language>
  <cp:lastModifiedBy>kwagner</cp:lastModifiedBy>
  <dcterms:modified xsi:type="dcterms:W3CDTF">2011-04-01T17:49:04Z</dcterms:modified>
  <cp:revision>2</cp:revision>
  <dc:subject/>
  <dc:title>Slide 1</dc:title>
</cp:coreProperties>
</file>